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B66-2E36-456B-9623-724BFBF6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356-D4B2-4FB9-9C4F-9087CE89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93A-5F60-4179-BA02-4DA2EEC2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BB1-E0C8-4E11-8F89-DFB8E383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4E1-1F81-42C5-B942-BB385AB5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975-E387-447C-B169-2D805B3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454-BAA0-47EB-9B95-1F3D8F1C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97E-1167-4411-9EA6-F4C38CA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5A8-C261-42ED-8429-A8E5AF34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7DE-DD2D-49CB-A95F-0EEEC91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918-1AD8-4F3A-BB91-E9955EFD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95B-347C-4E2E-B375-20D7E25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533-7687-4C34-AB07-A85CB543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map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20720" y="1981080"/>
            <a:ext cx="590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9:33:24Z</dcterms:created>
  <dc:creator>Kathy Haller</dc:creator>
  <dc:description/>
  <dc:language>en-US</dc:language>
  <cp:lastModifiedBy>Kathy Haller</cp:lastModifiedBy>
  <dcterms:modified xsi:type="dcterms:W3CDTF">2007-01-12T22:51:51Z</dcterms:modified>
  <cp:revision>1</cp:revision>
  <dc:subject/>
  <dc:title>Source models</dc:title>
</cp:coreProperties>
</file>