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033-EC7F-4F70-8015-3E392BA1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080-ADEA-4DF8-9654-F4782D4D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B17-0B2A-4E54-AA86-315205D4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359-D6E8-4B9A-B8C3-1F9EB0FD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BB5-6EE6-42B5-8181-DA2C2DB9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286-B475-4F60-ACF1-A1EFD05C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5D9-76E6-46F4-B741-53DD349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702-86EF-436D-B321-BF5AC35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D8C-CD27-4E2A-AED3-8B857BFB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BB4-455C-4C6D-9D23-C73D885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C71-63B8-4AF4-98AD-4D08E38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7BF-C3D7-4CB5-A69C-53968AE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FB1-8766-4995-B62B-2E4364DA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map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20720" y="1981080"/>
            <a:ext cx="590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9:33:24Z</dcterms:created>
  <dc:creator>Kathy Haller</dc:creator>
  <dc:description/>
  <dc:language>en-US</dc:language>
  <cp:lastModifiedBy>Kathy Haller</cp:lastModifiedBy>
  <dcterms:modified xsi:type="dcterms:W3CDTF">2007-01-12T22:51:51Z</dcterms:modified>
  <cp:revision>1</cp:revision>
  <dc:subject/>
  <dc:title>Source models</dc:title>
</cp:coreProperties>
</file>